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2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Hillsborough Squar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7" name="Text Box 4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Background.mid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Text Box 5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WordArt 3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WordArt 4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WordArt 5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WordArt 6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WordArt 7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WordArt 8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WordArt 9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WordArt 10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WordArt 11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WordArt 12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WordArt 13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WordArt 14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3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54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5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6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57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8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9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1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75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76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77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WordArt 78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79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WordArt 80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3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5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0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9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8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9">
            <a:hlinkClick r:id="rId19" action="ppaction://hlinksldjump"/>
          </p:cNvPr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Jennifer Ladieu</cp:lastModifiedBy>
  <dcterms:modified xsi:type="dcterms:W3CDTF">2012-06-30T14:39:50Z</dcterms:modified>
  <cp:revision>22</cp:revision>
  <dc:subject/>
  <dc:title>No Slide Title</dc:title>
</cp:coreProperties>
</file>